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drumroll.wav" ContentType="audio/x-wav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40A1-7FE9-4902-8043-509C58685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3F63-1E1A-4B3B-9E5B-1D6F5B3550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B902-7F8C-41B5-99B1-3B31F333C6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3322-74BD-4308-A939-3E8B1DD689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CE9B-44EC-487E-9AC4-4AE8373490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579D-C864-48F0-AC66-B3407C7988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9B38-19CD-4CF7-A9C9-2AE80B423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984D-D297-4B6B-A2BD-E8DD1D9E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CC8A-4F67-4B7D-9685-7F21216C3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026B-38A2-48E0-8FD9-D8EDEC0B1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927E-243D-4F18-88AA-7B253CBBB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1D0F-D87D-410D-9A1A-5C08BF8C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F2FE-807D-4E53-8C62-C96DCBDC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09CA-6BC6-4BBF-9C26-F40E7105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B943-5301-402F-A2C1-B58685EA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20F3-1E5E-4CB9-BEAE-8A8A7E6F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4FC0-7A06-4BBD-BFCA-5E21538B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5D7E-E881-4A75-8576-06ABEAFA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1D0F-5D61-4E60-A6F6-AB265DA5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461A-4497-4DA8-AD59-6AF3FDA9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31A0-9F49-4DE3-A48F-6C49F624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59B7-9CD8-436B-AE82-F4ED787B6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D8AA-5D56-4C1D-9C8D-A2C2840D9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8AAC-42FD-4C69-9B8F-BE41F07F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8FD3-1385-4668-8C78-5E79C9D1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FCEC-8DDA-4D6D-9369-C2464DDB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DE2A-8B26-45C8-9E7B-AD3CBACA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BD1E-5384-4BA1-86DE-18D6EFCA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DC9C-6C3A-44AC-8A5D-351B0CB8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BA34-D777-4EA3-B36B-313442D0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4FEC-F5CA-4704-B72A-ECB56C71D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74C3-A570-4ED4-8E88-76E1FE8AAB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SUPREME COURT @ WORK ONQ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Ques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on a separate sheet of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consult your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320" y="110016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Name the current chief Justice of the Supreme Court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3327480" y="3276720"/>
            <a:ext cx="2487600" cy="317016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wheel spokes="1"/>
    <p:sndAc>
      <p:stSnd>
        <p:snd r:embed="rId3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320" y="853920"/>
            <a:ext cx="9144000" cy="261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When does the Supreme Court do most of its work?</a:t>
            </a:r>
            <a:br>
              <a:rPr sz="4400"/>
            </a:br>
            <a:br>
              <a:rPr sz="32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762120" y="2971800"/>
            <a:ext cx="3052800" cy="3052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3"/>
          <a:stretch/>
        </p:blipFill>
        <p:spPr>
          <a:xfrm>
            <a:off x="5181480" y="3316320"/>
            <a:ext cx="3149640" cy="236232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circle/>
    <p:sndAc>
      <p:stSnd>
        <p:snd r:embed="rId4" name="drumroll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990720"/>
            <a:ext cx="91440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Explain the “Rule of Four.”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2"/>
          <a:stretch/>
        </p:blipFill>
        <p:spPr>
          <a:xfrm>
            <a:off x="3220920" y="2209680"/>
            <a:ext cx="2702160" cy="440712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cover dir="l"/>
    <p:sndAc>
      <p:stSnd>
        <p:snd r:embed="rId3" name="drumroll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320" y="14382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4. When is the October Term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5638680" y="3708360"/>
            <a:ext cx="2828880" cy="2622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/>
          <p:cNvPicPr/>
          <p:nvPr/>
        </p:nvPicPr>
        <p:blipFill>
          <a:blip r:embed="rId3"/>
          <a:stretch/>
        </p:blipFill>
        <p:spPr>
          <a:xfrm>
            <a:off x="990720" y="366408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checker dir="horz"/>
    <p:sndAc>
      <p:stSnd>
        <p:snd r:embed="rId4" name="drumroll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3480" y="609480"/>
            <a:ext cx="9144000" cy="144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5. Explain the Writ of Certiorari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6" name="Picture 7" descr=""/>
          <p:cNvPicPr/>
          <p:nvPr/>
        </p:nvPicPr>
        <p:blipFill>
          <a:blip r:embed="rId2"/>
          <a:stretch/>
        </p:blipFill>
        <p:spPr>
          <a:xfrm>
            <a:off x="2647800" y="2744640"/>
            <a:ext cx="3848400" cy="335304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dissolve/>
    <p:sndAc>
      <p:stSnd>
        <p:snd r:embed="rId3" name="drumroll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7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2-03-07T12:44:45Z</dcterms:modified>
  <cp:revision>144</cp:revision>
  <dc:subject/>
  <dc:title>D/O: TO EXPLAIN AND IDENTIFY PROBLEMS OF ECONOMICS</dc:title>
</cp:coreProperties>
</file>